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D065-3B3C-42CE-A349-8C6ED2539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774C-C98C-4692-BFA5-0DF41B0C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4F38-DAEB-415C-9D5F-27D209BAA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93E9-81B4-440E-865A-5225F369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BC51-D926-4A05-87B0-5951DB57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CF23-DCE1-4D0C-86E0-7A3872BA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F3B4-8300-4445-921A-D960B6D8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D04A-D5FF-40AF-A071-57B65AD6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EF3A-DE1B-4CC2-A852-075694B5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BFAE-C491-4947-895C-18683F2E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8422-A491-4828-8FD1-9485B3CB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587E-F85D-4F16-922F-45CB9C13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828B-613A-4FA0-81C4-BFC33F997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9"/>
          <p:cNvSpPr txBox="1"/>
          <p:nvPr/>
        </p:nvSpPr>
        <p:spPr>
          <a:xfrm>
            <a:off x="0" y="1500120"/>
            <a:ext cx="542916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5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方正大黑简体"/>
              </a:rPr>
              <a:t> </a:t>
            </a:r>
            <a:endParaRPr b="1" lang="en-US" sz="105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方正大黑简体"/>
              <a:ea typeface="方正大黑简体"/>
            </a:endParaRPr>
          </a:p>
        </p:txBody>
      </p:sp>
      <p:pic>
        <p:nvPicPr>
          <p:cNvPr id="42" name="Picture 11" descr="校标 拷贝"/>
          <p:cNvPicPr/>
          <p:nvPr/>
        </p:nvPicPr>
        <p:blipFill>
          <a:blip r:embed="rId2"/>
          <a:stretch/>
        </p:blipFill>
        <p:spPr>
          <a:xfrm>
            <a:off x="4143240" y="571680"/>
            <a:ext cx="1119240" cy="1285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43" name="Picture 288" descr="未标题-1 拷贝"/>
          <p:cNvPicPr/>
          <p:nvPr/>
        </p:nvPicPr>
        <p:blipFill>
          <a:blip r:embed="rId3"/>
          <a:stretch/>
        </p:blipFill>
        <p:spPr>
          <a:xfrm>
            <a:off x="2857680" y="4897440"/>
            <a:ext cx="3551040" cy="1746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-268920" y="1013400"/>
            <a:ext cx="1399320" cy="41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《</a:t>
            </a:r>
            <a:r>
              <a:rPr b="1" lang="zh-CN" sz="40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家风</a:t>
            </a:r>
            <a:r>
              <a:rPr b="1" lang="en-US" sz="40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》</a:t>
            </a:r>
            <a:r>
              <a:rPr b="1" lang="zh-CN" sz="40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读后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4"/>
          <a:srcRect l="7648" t="8108" r="8210" b="10811"/>
          <a:stretch/>
        </p:blipFill>
        <p:spPr>
          <a:xfrm rot="20602200">
            <a:off x="1506600" y="404928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5"/>
          <a:srcRect l="7648" t="10811" r="8210" b="13515"/>
          <a:stretch/>
        </p:blipFill>
        <p:spPr>
          <a:xfrm rot="20562600">
            <a:off x="1368000" y="1499760"/>
            <a:ext cx="1782720" cy="2268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"/>
          <p:cNvPicPr/>
          <p:nvPr/>
        </p:nvPicPr>
        <p:blipFill>
          <a:blip r:embed="rId6"/>
          <a:stretch/>
        </p:blipFill>
        <p:spPr>
          <a:xfrm>
            <a:off x="3643200" y="1785960"/>
            <a:ext cx="2363760" cy="271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7"/>
          <a:stretch/>
        </p:blipFill>
        <p:spPr>
          <a:xfrm rot="1224600">
            <a:off x="6708240" y="1550520"/>
            <a:ext cx="1524240" cy="228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"/>
          <p:cNvPicPr/>
          <p:nvPr/>
        </p:nvPicPr>
        <p:blipFill>
          <a:blip r:embed="rId8"/>
          <a:stretch/>
        </p:blipFill>
        <p:spPr>
          <a:xfrm rot="1260600">
            <a:off x="6554880" y="4176720"/>
            <a:ext cx="1701720" cy="2093760"/>
          </a:xfrm>
          <a:prstGeom prst="rect">
            <a:avLst/>
          </a:prstGeom>
          <a:ln w="0">
            <a:noFill/>
          </a:ln>
        </p:spPr>
      </p:pic>
      <p:sp>
        <p:nvSpPr>
          <p:cNvPr id="50" name="矩形 13"/>
          <p:cNvSpPr/>
          <p:nvPr/>
        </p:nvSpPr>
        <p:spPr>
          <a:xfrm>
            <a:off x="462600" y="6519960"/>
            <a:ext cx="19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耳濡目染自有传承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张春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4"/>
          <p:cNvSpPr/>
          <p:nvPr/>
        </p:nvSpPr>
        <p:spPr>
          <a:xfrm>
            <a:off x="4054320" y="4500720"/>
            <a:ext cx="16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家风 读后感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赵海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5"/>
          <p:cNvSpPr/>
          <p:nvPr/>
        </p:nvSpPr>
        <p:spPr>
          <a:xfrm>
            <a:off x="4500720" y="65199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以“格物致知”为本，陪伴孩子成长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周秀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4T01:29:29Z</dcterms:created>
  <dc:creator>微软用户</dc:creator>
  <dc:description/>
  <dc:language>en-US</dc:language>
  <cp:lastModifiedBy>Microsoft</cp:lastModifiedBy>
  <dcterms:modified xsi:type="dcterms:W3CDTF">2016-03-04T07:42:14Z</dcterms:modified>
  <cp:revision>49</cp:revision>
  <dc:subject/>
  <dc:title>幻灯片 1</dc:title>
</cp:coreProperties>
</file>